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E743-C2BE-48D2-9BA9-8A88FC39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4F56-DB0A-4E53-999C-173D69DE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7795-79C2-45F7-B38F-60EF4D09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2B02-90AC-4FE5-96BD-8195B078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FB68-0C34-484D-9ACE-C805E7A5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21E5-D62F-40B9-966A-B928B306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B10F-00BF-4276-B589-A8E2D3AE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AC40-574B-4EF7-A919-88F3AD8C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4AC7-1030-4085-8DB9-22062A91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A116-91AF-47D1-B604-0FD624C1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C253-F603-493C-969C-BCC37885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41C5-9186-4428-957F-EA83C274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1030-0F27-46F9-9C92-68BAC96A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DF2D-B90F-461E-8A03-0B263E7C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4A0C-796F-422E-9F4A-C04401BF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64F6-70E8-4C73-BD46-861415C2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C90E-0129-44BF-82D6-51C92766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614C-1C1C-4F41-8FE6-1A1A56BA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EA1-6202-4414-A4D9-15C9D393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80FE-D4E2-47F5-8F4F-86DF6CFE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C9A2-4982-4A1C-A1A8-FF9904EE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9770-7FF4-4792-A176-44B58495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0847-890D-4583-8785-214EEFF5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6F14-D481-40BA-8E95-E23603B0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1E9B-F689-4585-9645-D96BAB65D53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BC28-A1F8-4139-AC46-5C9CD29F138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ps.gov/meve/planyourvisit/hours.htm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csu.buffalo.edu/~mdbanas/theodore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ddy Roosevelt’s Square De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Theodore Roosevelt reforms domestic agendas and 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tecting Citizens &amp;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re Food and Drug A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liminated selling of contaminated foods and medic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so called for truth in label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5211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ederal Arbitr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strikes threaten public well being, the federal gov’t was expected to get involv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v’t helps in negotiating between management and wor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57880" y="1523880"/>
            <a:ext cx="295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stbus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osevelt believed not  all trusts were bad, only those who hurt the public interest were b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eel, oil, beef, tobacco, R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lieved federal gov’t had the right to regulate big busin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50000" y="1600200"/>
            <a:ext cx="419400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nservation vs. Preservation</a:t>
            </a:r>
            <a:br>
              <a:rPr sz="40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rotection of natural resources</a:t>
            </a:r>
            <a:br>
              <a:rPr sz="40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serv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some, save so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serv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none, save a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337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50 Forest Preserves, 5 National Par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089080" y="2378160"/>
            <a:ext cx="4965840" cy="2471400"/>
            <a:chOff x="2089080" y="2378160"/>
            <a:chExt cx="4965840" cy="2471400"/>
          </a:xfrm>
        </p:grpSpPr>
        <p:sp>
          <p:nvSpPr>
            <p:cNvPr id="137" name=""/>
            <p:cNvSpPr/>
            <p:nvPr/>
          </p:nvSpPr>
          <p:spPr>
            <a:xfrm>
              <a:off x="2089080" y="2378160"/>
              <a:ext cx="49658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089080" y="2378160"/>
              <a:ext cx="4965840" cy="2471400"/>
              <a:chOff x="2089080" y="2378160"/>
              <a:chExt cx="4965840" cy="2471400"/>
            </a:xfrm>
          </p:grpSpPr>
          <p:sp>
            <p:nvSpPr>
              <p:cNvPr id="139" name=""/>
              <p:cNvSpPr/>
              <p:nvPr/>
            </p:nvSpPr>
            <p:spPr>
              <a:xfrm>
                <a:off x="2089080" y="2378160"/>
                <a:ext cx="49658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2089080" y="2378160"/>
                <a:ext cx="2013120" cy="2471400"/>
                <a:chOff x="2089080" y="2378160"/>
                <a:chExt cx="2013120" cy="24714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2089080" y="2378160"/>
                  <a:ext cx="1652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089080" y="2378160"/>
                  <a:ext cx="2013120" cy="247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ff33cc"/>
                      </a:solidFill>
                      <a:uFillTx/>
                      <a:latin typeface="Times New Roman"/>
                      <a:hlinkClick r:id="rId1"/>
                    </a:rPr>
                    <a:t>  </a:t>
                  </a:r>
                  <a:r>
                    <a:rPr b="0" lang="en-US" sz="10800" spc="-1" strike="noStrike">
                      <a:solidFill>
                        <a:srgbClr val="eaeaea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eaeaea"/>
                      </a:solidFill>
                      <a:latin typeface="Times New Roman"/>
                    </a:rPr>
                    <a:t>                     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43" name="" descr="A snowy roadside view of Knife Edge Point and beyond to Montezuma Valley"/>
          <p:cNvPicPr/>
          <p:nvPr/>
        </p:nvPicPr>
        <p:blipFill>
          <a:blip r:embed="rId2"/>
          <a:stretch/>
        </p:blipFill>
        <p:spPr>
          <a:xfrm>
            <a:off x="2057400" y="3429000"/>
            <a:ext cx="64771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odore Roosevelt: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“The Modern President”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3" name="" descr="Photograph:Theodore Roosevelt photographed in Colorado in 1905."/>
          <p:cNvPicPr/>
          <p:nvPr/>
        </p:nvPicPr>
        <p:blipFill>
          <a:blip r:embed="rId1"/>
          <a:stretch/>
        </p:blipFill>
        <p:spPr>
          <a:xfrm>
            <a:off x="3200400" y="1676520"/>
            <a:ext cx="3160800" cy="3485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2817720" cy="3345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689200" y="12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23760" y="303120"/>
            <a:ext cx="9144000" cy="360"/>
          </a:xfrm>
          <a:prstGeom prst="rect">
            <a:avLst/>
          </a:prstGeom>
          <a:solidFill>
            <a:srgbClr val="eaeb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019920" y="2514600"/>
            <a:ext cx="28987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Modern President”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26</a:t>
            </a:r>
            <a:r>
              <a:rPr b="0" lang="en-US" sz="4000" spc="-1" strike="noStrike" baseline="30000">
                <a:solidFill>
                  <a:srgbClr val="ffcc66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Pres. 1901-1909 (R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ngest president ever @ 4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v’t responsible for citize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werful federal gov’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600200"/>
            <a:ext cx="34290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quare Deal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form supported by the Roosevelt administ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C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lkins Act of 1903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ustbusting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pburn Act of 190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re Food and Drug Ac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erv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at inspection 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pton Sinclair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78-1968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297240" cy="4884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81080" y="1905120"/>
            <a:ext cx="254808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4191120" cy="2894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91320" y="1371600"/>
            <a:ext cx="3143160" cy="43894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e everything but the squeal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54200" y="18162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4937040" cy="3864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638680" y="3048120"/>
            <a:ext cx="325764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 aimed at the public's heart, and by accident I hit it in the stomach."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936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tecting Citizens &amp;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at Inspection 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rict cleanliness requirements for meatpac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other form of gov’t regul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14600" y="3048120"/>
            <a:ext cx="539604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0-10-19T16:08:41Z</dcterms:modified>
  <cp:revision>11</cp:revision>
  <dc:subject/>
  <dc:title>PowerPoint Presentation</dc:title>
</cp:coreProperties>
</file>